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ECA9-50A3-4B9B-94D4-83EAFC96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98D0-83BA-4919-9055-1B9A1B5F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5261-0F24-4CEB-9EF1-0A754D98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759-B9E2-4B15-AC1F-327B2372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DB63-69F3-4AFC-B978-A4E340F1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331-9FE3-4C36-99F9-5841CB49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C3FD-580D-4752-BFFD-7EF9BC19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31F-D95D-4380-9563-0E41531B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DDB-B35B-492F-AECE-DD67355B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479-8649-43E5-87E1-698D9111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142-0264-4116-9412-56721810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26A-77AA-43C7-A864-24382C81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4B10-797B-491A-91C3-345AB78F0C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c.allan@leedsmet.ac.uk" TargetMode="External"/><Relationship Id="rId2" Type="http://schemas.openxmlformats.org/officeDocument/2006/relationships/hyperlink" Target="mailto:b.harper@leedsmet.ac.uk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b.harper@leedsmet.ac.uk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ere will teaching take you?</a:t>
            </a:r>
            <a:br>
              <a:rPr sz="4000"/>
            </a:b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t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14720" y="5357880"/>
            <a:ext cx="6216480" cy="81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bara Har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.harper@leedsmet.ac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Teacher\Desktop\DSCN3378.JPG"/>
          <p:cNvPicPr/>
          <p:nvPr/>
        </p:nvPicPr>
        <p:blipFill>
          <a:blip r:embed="rId2"/>
          <a:stretch/>
        </p:blipFill>
        <p:spPr>
          <a:xfrm>
            <a:off x="1785960" y="1571760"/>
            <a:ext cx="65912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Teacher\Desktop\DSCN3448.JPG"/>
          <p:cNvPicPr/>
          <p:nvPr/>
        </p:nvPicPr>
        <p:blipFill>
          <a:blip r:embed="rId2"/>
          <a:stretch/>
        </p:blipFill>
        <p:spPr>
          <a:xfrm>
            <a:off x="500040" y="1395360"/>
            <a:ext cx="82152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introduce key opportunities that exist for you as Leeds Me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that you know how and who to contact people who can advise and ass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highlight 2 special opportunities that are available to students studying to be Primary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eds Met students can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part in placements a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 to France to teach for your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teaching experience (January in the South of Franc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opportunity – FUNDED visit to Malaga (1 week) includes extra Spanish 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information on international placements generally – Leslie Silver International Fa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in Carnegie – Christine Allan, Principal Lecturer (co-ordinates the French programme)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.allan@leedsmet.ac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laga-Leeds link: either Christine or Barbara Harper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.harper@leedsmet.ac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ing foreign language skills in primary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ance – 4 week teaching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in – 1 week visit including working in school, with Leeds teachers and Spanish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estigious Regio Comenius project, therefore funded places.  You have to be prepared to contribute outside the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’s in it for 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400" y="1357200"/>
            <a:ext cx="8329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id trip to Mal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 language training (10 week course before you go, with practising teachers who are going to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portunity to work with a practising Leeds teacher also visiting while you are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portunity to develop links and relationships in schools in Leeds and Mal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’ll look fabulous on your C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at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-6 place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nish skill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t and PE are focuses for cross curricular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.harper@leedsmet.ac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indicate if you are inter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4:42:24Z</dcterms:created>
  <dc:creator>SEWarren</dc:creator>
  <dc:description/>
  <dc:language>en-US</dc:language>
  <cp:lastModifiedBy>Barbara</cp:lastModifiedBy>
  <dcterms:modified xsi:type="dcterms:W3CDTF">2010-01-23T07:20:30Z</dcterms:modified>
  <cp:revision>158</cp:revision>
  <dc:subject/>
  <dc:title>Introduction to Childhood Research  2003 - 2004</dc:title>
</cp:coreProperties>
</file>